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A14C-8D22-4CEB-A3CC-23AE693711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2310-A6DA-4752-9DA6-96D73BEFC2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A5B-CC57-4577-B951-8888EFE506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5185-FCC6-42BC-9BFA-1607B5450C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1A94-F8B6-4F11-A0FD-F1B9C5A94A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584-223C-4D9D-AF93-0C24263F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437-F764-449B-91EA-28899DBE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FFD-B6CB-4D83-8548-4F8F9A7B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756-C2DD-45EC-B41F-38AD2DD7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8F25E-0797-4FAD-B971-0A14C273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47183-453B-4F35-8EE3-DAA214AF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9A2EF-CA93-4A5F-8DFA-7BB118E8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5E357-B36A-4CD7-BA54-78A23C4E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38676-BB75-437A-8827-45007A54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41DF9-505D-4DEC-8031-27A0120D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025CD-B2AB-4BD2-B489-E076EC6A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3F2-FE1B-45A7-AB76-15EDCF77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C66ED-4FDA-4BDA-9BEB-DE75E943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6639E-05AD-44DE-853E-980CA50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F0BB9-46C6-44F7-8670-0EB0A576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C4352-D25B-4635-8A4A-44954E5A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0E948-1174-4931-B4B4-5A2BD175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73D-73A9-4C69-881A-92D47D50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668-6B7F-4322-A5DB-44037A91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AAB-A475-4B52-9FEB-83198D2B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F8B-C2BE-4FA8-83CE-0D1AC5B8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21B-E435-4698-A794-B24CE4C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D57-DBF3-4894-A374-878D49AA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056-9A0A-45CC-97E2-7742634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4873-73F0-43FD-A36A-08E196945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A2AB-9A6A-42BE-B8F8-6D6DAC3A41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1844640"/>
            <a:ext cx="7391160" cy="2232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истема оплаты стационарной помощи в 2014 году в Волгоградской обла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29200" y="5373360"/>
            <a:ext cx="501480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дел формирования и мониторинга программы ОМ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872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для случаев, не относящихся к родоразрешению или искусственному аборту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371600"/>
          <a:ext cx="8229600" cy="5342040"/>
        </p:xfrm>
        <a:graphic>
          <a:graphicData uri="http://schemas.openxmlformats.org/drawingml/2006/table">
            <a:tbl>
              <a:tblPr/>
              <a:tblGrid>
                <a:gridCol w="1758960"/>
                <a:gridCol w="3954600"/>
                <a:gridCol w="2516040"/>
              </a:tblGrid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Номер КС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Пластика шейки ма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Восстановление тазового д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Реконструкция влагалищ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Зашивание разрыва влагалища в промеж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25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Зашивание разрыва шейки мат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Восстановление вульвы и промеж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Наложение швов на шейку ма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Восстановление влагалищной стен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Вакуум-аспирация эндомет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иагностика онкологического заболевания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КСГ 20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143000"/>
          <a:ext cx="8229600" cy="5486040"/>
        </p:xfrm>
        <a:graphic>
          <a:graphicData uri="http://schemas.openxmlformats.org/drawingml/2006/table">
            <a:tbl>
              <a:tblPr/>
              <a:tblGrid>
                <a:gridCol w="1600200"/>
                <a:gridCol w="6629400"/>
              </a:tblGrid>
              <a:tr h="708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слюнной жел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тонкого кишеч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ануса и анального кан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поджелудочной жел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08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печ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желчного пузыря и желчевыводящих пу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Группы с дополнительными критериями форм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905120"/>
          <a:ext cx="8077320" cy="1549440"/>
        </p:xfrm>
        <a:graphic>
          <a:graphicData uri="http://schemas.openxmlformats.org/drawingml/2006/table">
            <a:tbl>
              <a:tblPr/>
              <a:tblGrid>
                <a:gridCol w="998640"/>
                <a:gridCol w="5900760"/>
                <a:gridCol w="588960"/>
                <a:gridCol w="588960"/>
              </a:tblGrid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5.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ЙНОГО ОТДЕЛА ПИЩЕВОДА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5.1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ДНОГО ОТДЕЛА ПИЩЕВОДА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1 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ШИБ НАРУЖНЫХ ПОЛОВЫХ ОРГА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520" y="3809880"/>
          <a:ext cx="8001000" cy="639720"/>
        </p:xfrm>
        <a:graphic>
          <a:graphicData uri="http://schemas.openxmlformats.org/drawingml/2006/table">
            <a:tbl>
              <a:tblPr/>
              <a:tblGrid>
                <a:gridCol w="1295280"/>
                <a:gridCol w="5562720"/>
                <a:gridCol w="620640"/>
                <a:gridCol w="5223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09.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Удаление новообразования легкого (атипичная резек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57200" y="4800600"/>
          <a:ext cx="8153280" cy="639720"/>
        </p:xfrm>
        <a:graphic>
          <a:graphicData uri="http://schemas.openxmlformats.org/drawingml/2006/table">
            <a:tbl>
              <a:tblPr/>
              <a:tblGrid>
                <a:gridCol w="1371600"/>
                <a:gridCol w="4141800"/>
                <a:gridCol w="620640"/>
                <a:gridCol w="698400"/>
                <a:gridCol w="622440"/>
                <a:gridCol w="698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12.05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Эндоваскулярная эмболизация сосу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</a:rPr>
                        <a:t>1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</a:rPr>
                        <a:t>1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ополнительные крите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д диагноза (при основном критерии группировки – код услуги Номенклатуры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д услуги Номенклатуры (при основном критерии группировки – код диагноз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озра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Дополнительные критерии (возра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Объект 3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25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Дополнительные критерии (возра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Объект 3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25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Дополнительные критерии (услуга - диагноз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Объект 3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25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Дополнительные критерии (по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Объект 3" descr=""/>
          <p:cNvPicPr/>
          <p:nvPr/>
        </p:nvPicPr>
        <p:blipFill>
          <a:blip r:embed="rId1"/>
          <a:stretch/>
        </p:blipFill>
        <p:spPr>
          <a:xfrm>
            <a:off x="457200" y="804960"/>
            <a:ext cx="82296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полнение полей реестра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исьмо «ТФОМС Волгоградской области» от 02.12 2013 №12-20-830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)</a:t>
            </a:r>
            <a:br>
              <a:rPr sz="1800"/>
            </a:b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73"/>
                </a:solidFill>
                <a:latin typeface="Tahoma"/>
              </a:rPr>
              <a:t>В разделе «Сведения о случае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Условия оказания медицинской помощи» «1» – стационарны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Вид помощи» «31» – специализированная медицинская помощь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Профиль» - «хирург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начала лечения» 01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окончания лечения» 21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иагноз основной» - К26.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д МЭС» - 175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Результат обращения (госпитализации)» - выпис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Исход заболевания» - улучше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Специальность лечащего врача» - «хирург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д способа оплаты медицинской помощи» - «16» – клинико-статистические групп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личество единиц оплаты медицинской помощи» «1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Тариф» заполняется в соответствии со Справочником тариф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Заполнение полей реес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73"/>
                </a:solidFill>
                <a:latin typeface="Tahoma"/>
              </a:rPr>
              <a:t>В разделе «Сведения об услуге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1.11.1 койко-день для учета объемов оказанной помощи в стациона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Профиль» - «хирург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начала лечения» 01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окончания лечения» 07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иагноз основной» - К26.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личество оказанных услуг» - 6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Тариф» 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Специальность медработника, выполнившего услугу» - хирур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1.11.1 койко-день для учета объемов оказанной помощи в стациона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Профиль» - «терап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начала лечения» 07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окончания лечения» 21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иагноз основной» - К26.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личество оказанных услуг» - 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Тариф» 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Специальность медработника, выполнившего услугу» - терапев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Основные понят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линико-статистическая группа заболеваний (КСГ) – группа заболеваний, относящихся к одному профилю стационарной медицинской помощи и сходных по используемым методам диагностики и лечения пациентов и средней ресурсоемкости (стоимость, структура затрат и набор используемых  ресур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ченный случай госпитализации – это оказание пациенту в одной медицинской организации стационарной медицинской помощи от момента поступления до момента выбытия, включая пребывание в нескольких профильных отделениях и все операции, выполненные в этот период време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872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Заполнение полей реес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73"/>
                </a:solidFill>
                <a:latin typeface="Tahoma"/>
              </a:rPr>
              <a:t>В разделе «Сведения об услуге» (продолжение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А16.16.021 Ушивание язвы желудка или двенадцатиперстной киш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Профиль» - «хирург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Дата начала лечения» 02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Дата окончания лечения» 02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Диагноз основной» - К26.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Количество оказанных услуг»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Тариф» 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Специальность медработника, выполнившего услугу» - хирур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Тариф = 1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5000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руб * 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70 * 0,97585 * 1,0 = 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15662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ру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Кодировка тарифа КС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UVRXXX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U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- код условия оказания медицинской помощ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ответствует коду из «Классификатора условий оказания медицинской помощи» V006 и принимает значения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руглосуточный стационар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невной стационар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мбулаторная помощь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корая медицинская помощ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V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- тип клинико-статистической групп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принимает значения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терапевтических групп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хирургических групп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комбинированных групп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R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- способ лече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ециализированное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ечени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-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ысокотехнологичное лечение в ОМ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Реабилитац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XXX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Х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- номер КСГ в рекомендациях Министерства здравоохранения РФ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с 0001 по 0201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209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Благодарю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за вним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Подзаголовок 2"/>
          <p:cNvSpPr/>
          <p:nvPr/>
        </p:nvSpPr>
        <p:spPr>
          <a:xfrm>
            <a:off x="4129200" y="5373720"/>
            <a:ext cx="5014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965160" y="399960"/>
            <a:ext cx="1087560" cy="10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новные нормативные докумен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«Рекомендации по способам оплаты специализированной медицинской помощи в стационарных условиях и в дневных стационарах на основе групп заболеваний, в том числе клинико-статистических групп (КСГ) и клинико-профильных групп (КПГ) за счет средств системы обязательного медицинского страхования» (утв. Письмом МЗ РФ от 11.11.2013 №66-0/10/2-8405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«Инструкция по группировке случаев заболеваний в КСГ» (утв. Приказом ФФОМС от 14.11.2013 №229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Приказ МЗ РФ от 10.12.2013 №916н «О перечне видов высокотехнологичной медицинской помощ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Письмо «ТФОМС Волгоградской области» от 02.12 2013 №12-20-830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О формировании Реестров сведений (счетов) при использовании способа оплаты стационарной медицинской помощи за законченный случай госпитализации, входящий в клинико-статистическую групп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равочник КС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2"/>
          <a:stretch/>
        </p:blipFill>
        <p:spPr>
          <a:xfrm>
            <a:off x="444600" y="1908000"/>
            <a:ext cx="833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4"/>
          <p:cNvSpPr/>
          <p:nvPr/>
        </p:nvSpPr>
        <p:spPr>
          <a:xfrm>
            <a:off x="3851280" y="260280"/>
            <a:ext cx="1657440" cy="4572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73"/>
                </a:solidFill>
                <a:latin typeface="Tahoma"/>
              </a:rPr>
              <a:t>К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11280" y="1066680"/>
            <a:ext cx="2284200" cy="561960"/>
          </a:xfrm>
          <a:prstGeom prst="rect">
            <a:avLst/>
          </a:prstGeom>
          <a:solidFill>
            <a:srgbClr val="f1c7da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73"/>
                </a:solidFill>
                <a:latin typeface="Tahoma"/>
              </a:rPr>
              <a:t>Терапевт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6588000" y="1066680"/>
            <a:ext cx="2087640" cy="561960"/>
          </a:xfrm>
          <a:prstGeom prst="rect">
            <a:avLst/>
          </a:prstGeom>
          <a:solidFill>
            <a:srgbClr val="92d05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73"/>
                </a:solidFill>
                <a:latin typeface="Tahoma"/>
              </a:rPr>
              <a:t>Хирург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539640" y="1700280"/>
            <a:ext cx="2087640" cy="122400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73"/>
                </a:solidFill>
                <a:latin typeface="Tahoma"/>
              </a:rPr>
              <a:t>Заболевания (МКБ-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6732720" y="1700280"/>
            <a:ext cx="2087280" cy="15001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73"/>
                </a:solidFill>
                <a:latin typeface="Tahoma"/>
              </a:rPr>
              <a:t>Услуги по номенклату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142440" y="2060640"/>
            <a:ext cx="29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Клинически однород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ходные по ресурсоемк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Стрелка углом вверх 13"/>
          <p:cNvSpPr/>
          <p:nvPr/>
        </p:nvSpPr>
        <p:spPr>
          <a:xfrm flipV="1" rot="5400000">
            <a:off x="3459960" y="445320"/>
            <a:ext cx="711360" cy="1512720"/>
          </a:xfrm>
          <a:custGeom>
            <a:avLst/>
            <a:gdLst/>
            <a:ahLst/>
            <a:rect l="l" t="t" r="r" b="b"/>
            <a:pathLst>
              <a:path w="711200" h="1512887">
                <a:moveTo>
                  <a:pt x="0" y="1335087"/>
                </a:moveTo>
                <a:lnTo>
                  <a:pt x="444500" y="1335087"/>
                </a:lnTo>
                <a:lnTo>
                  <a:pt x="444500" y="177800"/>
                </a:lnTo>
                <a:lnTo>
                  <a:pt x="355600" y="177800"/>
                </a:lnTo>
                <a:lnTo>
                  <a:pt x="533400" y="0"/>
                </a:lnTo>
                <a:lnTo>
                  <a:pt x="711200" y="177800"/>
                </a:lnTo>
                <a:lnTo>
                  <a:pt x="622300" y="177800"/>
                </a:lnTo>
                <a:lnTo>
                  <a:pt x="622300" y="1512887"/>
                </a:lnTo>
                <a:lnTo>
                  <a:pt x="0" y="1512887"/>
                </a:lnTo>
                <a:lnTo>
                  <a:pt x="0" y="1335087"/>
                </a:lnTo>
                <a:close/>
              </a:path>
            </a:pathLst>
          </a:custGeom>
          <a:solidFill>
            <a:srgbClr val="7bff7b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Стрелка вправо 1"/>
          <p:cNvSpPr/>
          <p:nvPr/>
        </p:nvSpPr>
        <p:spPr>
          <a:xfrm>
            <a:off x="6156360" y="2152800"/>
            <a:ext cx="4316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bff7b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Стрелка вправо 14"/>
          <p:cNvSpPr/>
          <p:nvPr/>
        </p:nvSpPr>
        <p:spPr>
          <a:xfrm rot="10800000">
            <a:off x="2705040" y="2180880"/>
            <a:ext cx="43200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bff7b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Стрелка углом вверх 15"/>
          <p:cNvSpPr/>
          <p:nvPr/>
        </p:nvSpPr>
        <p:spPr>
          <a:xfrm flipH="1" flipV="1" rot="16200000">
            <a:off x="5332320" y="446040"/>
            <a:ext cx="711360" cy="1511280"/>
          </a:xfrm>
          <a:custGeom>
            <a:avLst/>
            <a:gdLst/>
            <a:ahLst/>
            <a:rect l="l" t="t" r="r" b="b"/>
            <a:pathLst>
              <a:path w="711200" h="1511300">
                <a:moveTo>
                  <a:pt x="0" y="1333500"/>
                </a:moveTo>
                <a:lnTo>
                  <a:pt x="444500" y="1333500"/>
                </a:lnTo>
                <a:lnTo>
                  <a:pt x="444500" y="177800"/>
                </a:lnTo>
                <a:lnTo>
                  <a:pt x="355600" y="177800"/>
                </a:lnTo>
                <a:lnTo>
                  <a:pt x="533400" y="0"/>
                </a:lnTo>
                <a:lnTo>
                  <a:pt x="711200" y="177800"/>
                </a:lnTo>
                <a:lnTo>
                  <a:pt x="622300" y="177800"/>
                </a:lnTo>
                <a:lnTo>
                  <a:pt x="622300" y="1511300"/>
                </a:lnTo>
                <a:lnTo>
                  <a:pt x="0" y="1511300"/>
                </a:lnTo>
                <a:lnTo>
                  <a:pt x="0" y="1333500"/>
                </a:lnTo>
                <a:close/>
              </a:path>
            </a:pathLst>
          </a:custGeom>
          <a:solidFill>
            <a:srgbClr val="7bff7b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752480" y="419112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спертная коррекция коэффициентов относитель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тратоемко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нико-статистических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груп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ление операций по уровням (сложность, затратоемкос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2895480" y="32004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комендовано МЗ РФ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7588080" y="5410080"/>
            <a:ext cx="1087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Заголовок 6"/>
          <p:cNvSpPr/>
          <p:nvPr/>
        </p:nvSpPr>
        <p:spPr>
          <a:xfrm>
            <a:off x="2133720" y="-171360"/>
            <a:ext cx="50292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Расчет стоимости случ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Скругленный прямоугольник 2"/>
          <p:cNvGrpSpPr/>
          <p:nvPr/>
        </p:nvGrpSpPr>
        <p:grpSpPr>
          <a:xfrm>
            <a:off x="768240" y="3054240"/>
            <a:ext cx="7534440" cy="914400"/>
            <a:chOff x="768240" y="3054240"/>
            <a:chExt cx="7534440" cy="914400"/>
          </a:xfrm>
        </p:grpSpPr>
        <p:pic>
          <p:nvPicPr>
            <p:cNvPr id="115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68240" y="3054240"/>
              <a:ext cx="7534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60400" y="3122640"/>
              <a:ext cx="734868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10"/>
                  </a:solidFill>
                  <a:latin typeface="Arial"/>
                  <a:ea typeface="Arial"/>
                </a:rPr>
                <a:t>Базовый тариф КСГ = БС х К</a:t>
              </a:r>
              <a:r>
                <a:rPr b="1" lang="ru-RU" sz="1400" spc="-1" strike="noStrike">
                  <a:solidFill>
                    <a:srgbClr val="000010"/>
                  </a:solidFill>
                  <a:latin typeface="Arial"/>
                  <a:ea typeface="Arial"/>
                </a:rPr>
                <a:t>затр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" name="Скругленный прямоугольник 4"/>
          <p:cNvSpPr/>
          <p:nvPr/>
        </p:nvSpPr>
        <p:spPr>
          <a:xfrm>
            <a:off x="1792440" y="609480"/>
            <a:ext cx="54464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  <a:ea typeface="Arial"/>
              </a:rPr>
              <a:t>Случай с операцие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Скругленный прямоугольник 10"/>
          <p:cNvSpPr/>
          <p:nvPr/>
        </p:nvSpPr>
        <p:spPr>
          <a:xfrm>
            <a:off x="860400" y="1600200"/>
            <a:ext cx="3178080" cy="838080"/>
          </a:xfrm>
          <a:prstGeom prst="roundRect">
            <a:avLst>
              <a:gd name="adj" fmla="val 16667"/>
            </a:avLst>
          </a:prstGeom>
          <a:solidFill>
            <a:srgbClr val="f1c7da"/>
          </a:solidFill>
          <a:ln w="9360">
            <a:solidFill>
              <a:srgbClr val="00c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ду диагноза МКБ определение терапевтической групп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Скругленный прямоугольник 11"/>
          <p:cNvSpPr/>
          <p:nvPr/>
        </p:nvSpPr>
        <p:spPr>
          <a:xfrm>
            <a:off x="4906800" y="1600200"/>
            <a:ext cx="3246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ду услуги по номенклатуре определение хирургической групп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Стрелка вниз 6"/>
          <p:cNvGrpSpPr/>
          <p:nvPr/>
        </p:nvGrpSpPr>
        <p:grpSpPr>
          <a:xfrm>
            <a:off x="1700280" y="1116000"/>
            <a:ext cx="1274760" cy="603360"/>
            <a:chOff x="1700280" y="1116000"/>
            <a:chExt cx="1274760" cy="603360"/>
          </a:xfrm>
        </p:grpSpPr>
        <p:pic>
          <p:nvPicPr>
            <p:cNvPr id="121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1700280" y="1116000"/>
              <a:ext cx="12747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046240" y="1238400"/>
              <a:ext cx="582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Стрелка вниз 9"/>
          <p:cNvGrpSpPr/>
          <p:nvPr/>
        </p:nvGrpSpPr>
        <p:grpSpPr>
          <a:xfrm>
            <a:off x="5950080" y="1116000"/>
            <a:ext cx="1285920" cy="596880"/>
            <a:chOff x="5950080" y="1116000"/>
            <a:chExt cx="1285920" cy="596880"/>
          </a:xfrm>
        </p:grpSpPr>
        <p:pic>
          <p:nvPicPr>
            <p:cNvPr id="124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5950080" y="1116000"/>
              <a:ext cx="12859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297480" y="1236600"/>
              <a:ext cx="590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Стрелка вниз 20"/>
          <p:cNvGrpSpPr/>
          <p:nvPr/>
        </p:nvGrpSpPr>
        <p:grpSpPr>
          <a:xfrm>
            <a:off x="1700280" y="2511360"/>
            <a:ext cx="1274760" cy="549360"/>
            <a:chOff x="1700280" y="2511360"/>
            <a:chExt cx="1274760" cy="549360"/>
          </a:xfrm>
        </p:grpSpPr>
        <p:pic>
          <p:nvPicPr>
            <p:cNvPr id="127" name="Стрелка вниз 20" descr=""/>
            <p:cNvPicPr/>
            <p:nvPr/>
          </p:nvPicPr>
          <p:blipFill>
            <a:blip r:embed="rId5"/>
            <a:stretch/>
          </p:blipFill>
          <p:spPr>
            <a:xfrm>
              <a:off x="1700280" y="2511360"/>
              <a:ext cx="1274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046240" y="2543040"/>
              <a:ext cx="582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Стрелка вниз 21"/>
          <p:cNvGrpSpPr/>
          <p:nvPr/>
        </p:nvGrpSpPr>
        <p:grpSpPr>
          <a:xfrm>
            <a:off x="5986440" y="2517840"/>
            <a:ext cx="1328760" cy="542880"/>
            <a:chOff x="5986440" y="2517840"/>
            <a:chExt cx="1328760" cy="542880"/>
          </a:xfrm>
        </p:grpSpPr>
        <p:pic>
          <p:nvPicPr>
            <p:cNvPr id="130" name="Стрелка вниз 21" descr=""/>
            <p:cNvPicPr/>
            <p:nvPr/>
          </p:nvPicPr>
          <p:blipFill>
            <a:blip r:embed="rId6"/>
            <a:stretch/>
          </p:blipFill>
          <p:spPr>
            <a:xfrm>
              <a:off x="5986440" y="2517840"/>
              <a:ext cx="13287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345360" y="2548080"/>
              <a:ext cx="608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2" name="Скругленный прямоугольник 2"/>
          <p:cNvGrpSpPr/>
          <p:nvPr/>
        </p:nvGrpSpPr>
        <p:grpSpPr>
          <a:xfrm>
            <a:off x="768240" y="4956120"/>
            <a:ext cx="7534440" cy="914400"/>
            <a:chOff x="768240" y="4956120"/>
            <a:chExt cx="7534440" cy="914400"/>
          </a:xfrm>
        </p:grpSpPr>
        <p:pic>
          <p:nvPicPr>
            <p:cNvPr id="133" name="Скругленный прямоугольник 2" descr=""/>
            <p:cNvPicPr/>
            <p:nvPr/>
          </p:nvPicPr>
          <p:blipFill>
            <a:blip r:embed="rId7"/>
            <a:stretch/>
          </p:blipFill>
          <p:spPr>
            <a:xfrm>
              <a:off x="768240" y="4956120"/>
              <a:ext cx="7534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60400" y="5027760"/>
              <a:ext cx="7348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10"/>
                  </a:solidFill>
                  <a:latin typeface="Arial"/>
                  <a:ea typeface="Arial"/>
                </a:rPr>
                <a:t>Тариф КСГ для МО = БТ КСГ </a:t>
              </a:r>
              <a:r>
                <a:rPr b="1" lang="ru-RU" sz="1800" spc="-1" strike="noStrike">
                  <a:solidFill>
                    <a:srgbClr val="000010"/>
                  </a:solidFill>
                  <a:latin typeface="Tahoma"/>
                </a:rPr>
                <a:t>х </a:t>
              </a:r>
              <a:r>
                <a:rPr b="1" lang="ru-RU" sz="3200" spc="-1" strike="noStrike">
                  <a:solidFill>
                    <a:srgbClr val="000010"/>
                  </a:solidFill>
                  <a:latin typeface="Arial"/>
                </a:rPr>
                <a:t>к</a:t>
              </a:r>
              <a:r>
                <a:rPr b="1" lang="ru-RU" sz="1400" spc="-1" strike="noStrike">
                  <a:solidFill>
                    <a:srgbClr val="000010"/>
                  </a:solidFill>
                  <a:latin typeface="Tahoma"/>
                </a:rPr>
                <a:t>упр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10"/>
                  </a:solidFill>
                  <a:latin typeface="Arial"/>
                  <a:ea typeface="Arial"/>
                </a:rPr>
                <a:t>х К</a:t>
              </a:r>
              <a:r>
                <a:rPr b="1" lang="ru-RU" sz="1400" spc="-1" strike="noStrike">
                  <a:solidFill>
                    <a:srgbClr val="000010"/>
                  </a:solidFill>
                  <a:latin typeface="Tahoma"/>
                </a:rPr>
                <a:t>груп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Стрелка вниз 16"/>
          <p:cNvGrpSpPr/>
          <p:nvPr/>
        </p:nvGrpSpPr>
        <p:grpSpPr>
          <a:xfrm>
            <a:off x="3852720" y="4133880"/>
            <a:ext cx="1328760" cy="547560"/>
            <a:chOff x="3852720" y="4133880"/>
            <a:chExt cx="1328760" cy="547560"/>
          </a:xfrm>
        </p:grpSpPr>
        <p:pic>
          <p:nvPicPr>
            <p:cNvPr id="136" name="Стрелка вниз 16" descr=""/>
            <p:cNvPicPr/>
            <p:nvPr/>
          </p:nvPicPr>
          <p:blipFill>
            <a:blip r:embed="rId8"/>
            <a:stretch/>
          </p:blipFill>
          <p:spPr>
            <a:xfrm>
              <a:off x="3852720" y="4133880"/>
              <a:ext cx="13287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211640" y="4164120"/>
              <a:ext cx="6080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8" name="Picture 4" descr=""/>
          <p:cNvPicPr/>
          <p:nvPr/>
        </p:nvPicPr>
        <p:blipFill>
          <a:blip r:embed="rId9"/>
          <a:stretch/>
        </p:blipFill>
        <p:spPr>
          <a:xfrm>
            <a:off x="304920" y="304920"/>
            <a:ext cx="10872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Алгоритм отнесения случая госпитализации к КС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629400" cy="548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872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имер отнесения случая к КС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066320"/>
            <a:ext cx="4343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С 01.01.2014 по 14.01.2014 лечение в хирургическом отделении мужчины 35 лет по поводу острой язвы двенадцатиперстной кишки с кровотечением и прободением (К26.2). Проведена операция ушивания язвы двенадцатиперстной кишки (А16.16.021). Выписан на амбулаторный этап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С 01.01.2014 по 07.01.2014 лечение в хирургическом отделении мужчины 35 лет по поводу острой язвы двенадцатиперстной кишки с кровотечением (К26.0) Операция не проводилась. Переведен в терапевтическое отделение, Лечение с 07.01.2014 по 18.01.2014. Выписан на амбулаторный этап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С 01.01.2014 по 07.01.2014 лечение в хирургическом отделении мужчины 35 лет по поводу острой язвы двенадцатиперстной кишки с кровотечением и прободением (К26.2). Проведена операция ушивания язвы двенадцатиперстной кишки (А16.16.021). Переведен в терапевтическое отделение с 07.01.2014 по 21.01.2014. Выписан на амбулаторный этап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43400" y="1905120"/>
          <a:ext cx="4648320" cy="1904760"/>
        </p:xfrm>
        <a:graphic>
          <a:graphicData uri="http://schemas.openxmlformats.org/drawingml/2006/table">
            <a:tbl>
              <a:tblPr/>
              <a:tblGrid>
                <a:gridCol w="525600"/>
                <a:gridCol w="2895480"/>
                <a:gridCol w="612720"/>
                <a:gridCol w="61452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зва желудка и двенадцатиперстной киш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73"/>
                          </a:solidFill>
                          <a:latin typeface="Times New Roman"/>
                        </a:rPr>
                        <a:t>Операции на пищеводе, желудке, двенадцатиперстной кишке (уровень затрат 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,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Х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обенности формирования КСГ акушерско-гинекологического профил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0"/>
                </a:solidFill>
                <a:latin typeface="Tahoma"/>
              </a:rPr>
              <a:t>Исключены из основного критерия группиров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A16.20.005.001 Расширение шеечного ка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0 Наложение акушерских щипц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1 Вакуум-экстракция пл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1.001 Экстракция плода за тазовый коне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3 Ручное пособие при тазовом предлежании плода (по Цовьянов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3.001 Поворот плода за нож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3.002 Классическое ручное пособие при тазовом предлежании пл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6 Наложение гемостатических компрессионных швов (</a:t>
            </a: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lunch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6.001 Наложение клемм по Бакшее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6.002 Наложение клемм по Генкелю-Тиканад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7 Установка внутриматочного балл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3.003 Ручное отделение плаценты и выделение послед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Video</dc:creator>
  <dc:description/>
  <dc:language>en-US</dc:language>
  <cp:lastModifiedBy>TAleksandrova</cp:lastModifiedBy>
  <dcterms:modified xsi:type="dcterms:W3CDTF">2013-12-20T06:37:5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